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3890-3131-4FA1-98D1-A98CA36727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F8FF-EB2B-4D1F-A818-CEA5567EF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D37C-900B-42ED-AC54-1561AA6122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видеть результат в клетке – нажмите на данную клет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87F0-4C2D-408A-8A1B-8AF7BBB74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051-0347-457C-AC8F-F0F29DBE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1E9-1A7B-46A0-B138-ED5479FB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7F6-1710-4A34-A1C6-DFC69307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AE5-EF25-4FA5-81C5-AA164363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415-EF81-49F0-BA49-D5ADA049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20E-94B9-4F1B-8D66-93BD0D5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BE3-DF07-456E-9784-759591A9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2DB-4533-471D-841D-82E593C9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B17-7BEC-4362-9102-CDFF287D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F1E-C8A5-47DA-9812-47E99A11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F04-ABC4-4518-A86A-535C55C5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AC3-CCFF-4AD7-ADD8-7B95545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B455-067A-4BCA-82A3-B0D18A2ABCC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E693-2390-4F77-8588-85A3C1C6B7B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ypuzzle.ru/img/big/686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tiwy.com/noticias/2008/pallada_400a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norwegian.ruvr.ru/data/833/258/1234/Parusnik.jp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84&amp;ed=1&amp;text=&#1092;&#1086;&#1090;&#1086;%20&#1085;&#1077;&#1079;&#1085;&#1072;&#1081;&#1082;&#1080;&amp;spsite=fake-008-745057.ru&amp;img_url=media.meta.ua/files/pic/0/25/197/phcc7A1OgX.jpg&amp;rpt=simag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oto.dreamvoyage.ru/photo/60-0-3212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&amp;ed=1&amp;text=&#1076;&#1088;&#1072;&#1082;&#1086;&#1085;&#1086;&#1074;&#1086;&#1077;%20&#1076;&#1077;&#1088;&#1077;&#1074;&#1086;&amp;spsite=fake-025-979717.ru&amp;img_url=www.tourgenius.ru/drp/f/file/390695921/repphoto_260_2313.jpg&amp;rpt=simage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Девиз нашего урока: </a:t>
            </a:r>
            <a:r>
              <a:rPr b="1" i="1" lang="ru-RU" sz="3600" spc="-1" strike="noStrike">
                <a:solidFill>
                  <a:srgbClr val="c00000"/>
                </a:solidFill>
                <a:latin typeface="Consolas"/>
              </a:rPr>
              <a:t>«Делай быстро, но не спеши»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nsola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onsolas"/>
              </a:rPr>
              <a:t>Автор: учитель математики МОУ СОШ № 1 г. Гороховца, Владимирской области Лапчёва Е. 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10253f"/>
                </a:solidFill>
                <a:latin typeface="Consolas"/>
              </a:rPr>
              <a:t>Тема: «Действия с десятичными дробями»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CB19-785D-4B91-95A3-FC0651D606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olas"/>
              </a:rPr>
              <a:t>Восстановите пропус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4 × (у – 1,2) = 6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– 1,2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3" descr="Рисунок15"/>
          <p:cNvPicPr/>
          <p:nvPr/>
        </p:nvPicPr>
        <p:blipFill>
          <a:blip r:embed="rId1"/>
          <a:stretch/>
        </p:blipFill>
        <p:spPr>
          <a:xfrm>
            <a:off x="6072120" y="142884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5E06-7001-48F2-92FE-24568C044D4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olas"/>
              </a:rPr>
              <a:t>Выберите правильный 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-0,01;Р–1,28;К–14,9;А–25,7;Ф–0,9;И-1,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Ромб 3"/>
          <p:cNvSpPr/>
          <p:nvPr/>
        </p:nvSpPr>
        <p:spPr>
          <a:xfrm>
            <a:off x="642960" y="2428920"/>
            <a:ext cx="2628720" cy="141444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5,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процесс 6"/>
          <p:cNvSpPr/>
          <p:nvPr/>
        </p:nvSpPr>
        <p:spPr>
          <a:xfrm>
            <a:off x="1214280" y="4357800"/>
            <a:ext cx="1914840" cy="16128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,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извлечение 7"/>
          <p:cNvSpPr/>
          <p:nvPr/>
        </p:nvSpPr>
        <p:spPr>
          <a:xfrm>
            <a:off x="3857760" y="4214880"/>
            <a:ext cx="2043000" cy="192888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данные 8"/>
          <p:cNvSpPr/>
          <p:nvPr/>
        </p:nvSpPr>
        <p:spPr>
          <a:xfrm>
            <a:off x="6286680" y="2357280"/>
            <a:ext cx="1914480" cy="147024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4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с двумя скругленными соседними углами 9"/>
          <p:cNvSpPr/>
          <p:nvPr/>
        </p:nvSpPr>
        <p:spPr>
          <a:xfrm>
            <a:off x="6286680" y="4643280"/>
            <a:ext cx="2000160" cy="986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0,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ятиугольник 10"/>
          <p:cNvSpPr/>
          <p:nvPr/>
        </p:nvSpPr>
        <p:spPr>
          <a:xfrm>
            <a:off x="4000680" y="2500200"/>
            <a:ext cx="1549080" cy="1214640"/>
          </a:xfrm>
          <a:custGeom>
            <a:avLst/>
            <a:gdLst>
              <a:gd name="textAreaLeft" fmla="*/ 0 w 1549080"/>
              <a:gd name="textAreaRight" fmla="*/ 1549440 w 154908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68" y="0"/>
                </a:lnTo>
                <a:lnTo>
                  <a:pt x="21600" y="10800"/>
                </a:lnTo>
                <a:lnTo>
                  <a:pt x="135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0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8675-6409-4127-84AE-E037EC1AA7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 rot="10800000">
            <a:off x="457200" y="6126120"/>
            <a:ext cx="8229600" cy="1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Блок-схема: перфолента 4"/>
          <p:cNvSpPr/>
          <p:nvPr/>
        </p:nvSpPr>
        <p:spPr>
          <a:xfrm>
            <a:off x="571680" y="1214280"/>
            <a:ext cx="7858080" cy="300060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e46c0a"/>
                </a:solidFill>
                <a:latin typeface="Calibri"/>
              </a:rPr>
              <a:t>Афри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5AD2-70D4-4D0A-B1ED-0FEDFD6323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185724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/>
          <p:cNvSpPr/>
          <p:nvPr/>
        </p:nvSpPr>
        <p:spPr>
          <a:xfrm>
            <a:off x="900000" y="189000"/>
            <a:ext cx="7526520" cy="1079280"/>
          </a:xfrm>
          <a:prstGeom prst="wedgeRoundRectCallout">
            <a:avLst>
              <a:gd name="adj1" fmla="val 36564"/>
              <a:gd name="adj2" fmla="val 190439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Georgia"/>
              </a:rPr>
              <a:t>Составьте выражение по сх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Georgia"/>
              </a:rPr>
              <a:t>и найдите его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280" y="148428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979640" y="263700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179280" y="263700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7,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978200" y="1484280"/>
            <a:ext cx="122364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851280" y="148428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,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651640" y="148428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3851280" y="378936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5651640" y="263700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979640" y="378936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851280" y="2637000"/>
            <a:ext cx="122400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58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2916360" y="4869000"/>
            <a:ext cx="1224000" cy="647640"/>
          </a:xfrm>
          <a:prstGeom prst="rect">
            <a:avLst/>
          </a:prstGeom>
          <a:solidFill>
            <a:srgbClr val="ffeb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7"/>
          <p:cNvSpPr/>
          <p:nvPr/>
        </p:nvSpPr>
        <p:spPr>
          <a:xfrm>
            <a:off x="1619280" y="1773360"/>
            <a:ext cx="71280" cy="73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8"/>
          <p:cNvGrpSpPr/>
          <p:nvPr/>
        </p:nvGrpSpPr>
        <p:grpSpPr>
          <a:xfrm>
            <a:off x="5292720" y="1628640"/>
            <a:ext cx="71280" cy="288720"/>
            <a:chOff x="5292720" y="1628640"/>
            <a:chExt cx="71280" cy="288720"/>
          </a:xfrm>
        </p:grpSpPr>
        <p:sp>
          <p:nvSpPr>
            <p:cNvPr id="147" name="Oval 19"/>
            <p:cNvSpPr/>
            <p:nvPr/>
          </p:nvSpPr>
          <p:spPr>
            <a:xfrm>
              <a:off x="5292720" y="1628640"/>
              <a:ext cx="71280" cy="730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0"/>
            <p:cNvSpPr/>
            <p:nvPr/>
          </p:nvSpPr>
          <p:spPr>
            <a:xfrm>
              <a:off x="5292720" y="1844640"/>
              <a:ext cx="71280" cy="72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WordArt 21"/>
          <p:cNvSpPr txBox="1"/>
          <p:nvPr/>
        </p:nvSpPr>
        <p:spPr>
          <a:xfrm>
            <a:off x="1547640" y="2781360"/>
            <a:ext cx="289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WordArt 23"/>
          <p:cNvSpPr txBox="1"/>
          <p:nvPr/>
        </p:nvSpPr>
        <p:spPr>
          <a:xfrm>
            <a:off x="3348000" y="3933720"/>
            <a:ext cx="289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24"/>
          <p:cNvSpPr txBox="1"/>
          <p:nvPr/>
        </p:nvSpPr>
        <p:spPr>
          <a:xfrm>
            <a:off x="4930560" y="2853000"/>
            <a:ext cx="28908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792000" y="2133720"/>
            <a:ext cx="1783080" cy="48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822240" y="3276720"/>
            <a:ext cx="176868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4449600" y="2133720"/>
            <a:ext cx="1768680" cy="48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4419720" y="3292560"/>
            <a:ext cx="1844640" cy="48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1"/>
          <p:cNvSpPr/>
          <p:nvPr/>
        </p:nvSpPr>
        <p:spPr>
          <a:xfrm>
            <a:off x="2620800" y="4449600"/>
            <a:ext cx="854280" cy="411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2560680" y="2117880"/>
            <a:ext cx="14400" cy="51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3"/>
          <p:cNvSpPr/>
          <p:nvPr/>
        </p:nvSpPr>
        <p:spPr>
          <a:xfrm>
            <a:off x="3581280" y="4449600"/>
            <a:ext cx="868320" cy="411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4427640" y="3284640"/>
            <a:ext cx="14040" cy="51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5"/>
          <p:cNvSpPr/>
          <p:nvPr/>
        </p:nvSpPr>
        <p:spPr>
          <a:xfrm>
            <a:off x="6227640" y="2133720"/>
            <a:ext cx="14400" cy="51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6"/>
          <p:cNvSpPr/>
          <p:nvPr/>
        </p:nvSpPr>
        <p:spPr>
          <a:xfrm>
            <a:off x="2556000" y="3284640"/>
            <a:ext cx="14040" cy="51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3"/>
          <p:cNvGrpSpPr/>
          <p:nvPr/>
        </p:nvGrpSpPr>
        <p:grpSpPr>
          <a:xfrm>
            <a:off x="250920" y="5950080"/>
            <a:ext cx="6481800" cy="647640"/>
            <a:chOff x="250920" y="5950080"/>
            <a:chExt cx="6481800" cy="647640"/>
          </a:xfrm>
        </p:grpSpPr>
        <p:sp>
          <p:nvSpPr>
            <p:cNvPr id="163" name="Rectangle 37"/>
            <p:cNvSpPr/>
            <p:nvPr/>
          </p:nvSpPr>
          <p:spPr>
            <a:xfrm>
              <a:off x="250920" y="5950080"/>
              <a:ext cx="648180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6600"/>
                  </a:solidFill>
                  <a:latin typeface="Times New Roman"/>
                </a:rPr>
                <a:t>(27,01 + 45  3,2) + (58,2 – 4,44:37 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8"/>
            <p:cNvSpPr/>
            <p:nvPr/>
          </p:nvSpPr>
          <p:spPr>
            <a:xfrm>
              <a:off x="2411280" y="6237360"/>
              <a:ext cx="71640" cy="730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44"/>
          <p:cNvSpPr/>
          <p:nvPr/>
        </p:nvSpPr>
        <p:spPr>
          <a:xfrm>
            <a:off x="2124000" y="4292640"/>
            <a:ext cx="2808360" cy="1704960"/>
          </a:xfrm>
          <a:prstGeom prst="irregularSeal1">
            <a:avLst/>
          </a:prstGeom>
          <a:solidFill>
            <a:srgbClr val="ffeb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Times New Roman"/>
              </a:rPr>
              <a:t>229,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46"/>
          <p:cNvSpPr txBox="1"/>
          <p:nvPr/>
        </p:nvSpPr>
        <p:spPr>
          <a:xfrm>
            <a:off x="2050920" y="2781360"/>
            <a:ext cx="108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44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WordArt 47"/>
          <p:cNvSpPr txBox="1"/>
          <p:nvPr/>
        </p:nvSpPr>
        <p:spPr>
          <a:xfrm>
            <a:off x="2050920" y="3933720"/>
            <a:ext cx="108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71,01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WordArt 48"/>
          <p:cNvSpPr txBox="1"/>
          <p:nvPr/>
        </p:nvSpPr>
        <p:spPr>
          <a:xfrm>
            <a:off x="5940360" y="2781360"/>
            <a:ext cx="5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,12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WordArt 49"/>
          <p:cNvSpPr txBox="1"/>
          <p:nvPr/>
        </p:nvSpPr>
        <p:spPr>
          <a:xfrm>
            <a:off x="4067280" y="393372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8,08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сылки для карти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арусн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s43.radikal.ru/i102/1004/82/c22287a7fd85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old.marin.ru/greece/ms/hermina_2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знайка и знай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russia2.org/pics/nezn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raduga-detki.ru/content/images/4cd680689e40.p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30A6-9C93-4196-A083-76759726A9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onsolas"/>
              </a:rPr>
              <a:t>Урок – путеше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-main-pic" descr="Картинка 3 из 23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9120" y="1428840"/>
            <a:ext cx="3743280" cy="2519280"/>
          </a:xfrm>
          <a:prstGeom prst="rect">
            <a:avLst/>
          </a:prstGeom>
          <a:ln w="0">
            <a:noFill/>
          </a:ln>
        </p:spPr>
      </p:pic>
      <p:pic>
        <p:nvPicPr>
          <p:cNvPr id="53" name="i-main-pic" descr="Картинка 4 из 2387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680" y="1428840"/>
            <a:ext cx="3908160" cy="2519280"/>
          </a:xfrm>
          <a:prstGeom prst="rect">
            <a:avLst/>
          </a:prstGeom>
          <a:ln w="0">
            <a:noFill/>
          </a:ln>
        </p:spPr>
      </p:pic>
      <p:pic>
        <p:nvPicPr>
          <p:cNvPr id="54" name="i-main-pic" descr="Картинка 7 из 2387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43160" y="3500280"/>
            <a:ext cx="2712960" cy="309564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909B-BCBD-47BE-BBE7-B8AD624DEF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dd36efffaaed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6"/>
          <p:cNvSpPr/>
          <p:nvPr/>
        </p:nvSpPr>
        <p:spPr>
          <a:xfrm>
            <a:off x="3203640" y="260280"/>
            <a:ext cx="5543640" cy="1224000"/>
          </a:xfrm>
          <a:prstGeom prst="cloudCallout">
            <a:avLst>
              <a:gd name="adj1" fmla="val -72509"/>
              <a:gd name="adj2" fmla="val 6024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полни  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24000" y="4797360"/>
            <a:ext cx="1152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8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124000" y="386064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77164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364000" y="3860640"/>
            <a:ext cx="1152720" cy="5763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85928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694836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Рисунок15"/>
          <p:cNvPicPr/>
          <p:nvPr/>
        </p:nvPicPr>
        <p:blipFill>
          <a:blip r:embed="rId2"/>
          <a:stretch/>
        </p:blipFill>
        <p:spPr>
          <a:xfrm>
            <a:off x="621504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6"/>
          <p:cNvSpPr/>
          <p:nvPr/>
        </p:nvSpPr>
        <p:spPr>
          <a:xfrm rot="19574400">
            <a:off x="1476360" y="472392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909800" y="479736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 rot="17581200">
            <a:off x="2016720" y="31755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2706480" y="30686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 2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3708360" y="23493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925800" y="184464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*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5867280" y="23493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6520" y="1773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 rot="7948200">
            <a:off x="6336000" y="31755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5802120" y="28526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 3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E151-0319-4B07-9660-6096EBFBDB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d36efffaaed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"/>
          <p:cNvSpPr/>
          <p:nvPr/>
        </p:nvSpPr>
        <p:spPr>
          <a:xfrm>
            <a:off x="3203640" y="260280"/>
            <a:ext cx="5543640" cy="1224000"/>
          </a:xfrm>
          <a:prstGeom prst="cloudCallout">
            <a:avLst>
              <a:gd name="adj1" fmla="val -72509"/>
              <a:gd name="adj2" fmla="val 6024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полни  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39640" y="5229360"/>
            <a:ext cx="1008000" cy="10080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2627280" y="4508640"/>
            <a:ext cx="1079640" cy="107928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2050920" y="2205000"/>
            <a:ext cx="107964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4140360" y="2852640"/>
            <a:ext cx="107928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6443640" y="1989000"/>
            <a:ext cx="107964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5508720" y="4149720"/>
            <a:ext cx="1081080" cy="108108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Рисунок15"/>
          <p:cNvPicPr/>
          <p:nvPr/>
        </p:nvPicPr>
        <p:blipFill>
          <a:blip r:embed="rId2"/>
          <a:stretch/>
        </p:blipFill>
        <p:spPr>
          <a:xfrm>
            <a:off x="6429240" y="3143160"/>
            <a:ext cx="2318040" cy="3527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4"/>
          <p:cNvSpPr/>
          <p:nvPr/>
        </p:nvSpPr>
        <p:spPr>
          <a:xfrm rot="18134400">
            <a:off x="351360" y="4075560"/>
            <a:ext cx="2374920" cy="287280"/>
          </a:xfrm>
          <a:custGeom>
            <a:avLst/>
            <a:gdLst>
              <a:gd name="textAreaLeft" fmla="*/ 296640 w 2374920"/>
              <a:gd name="textAreaRight" fmla="*/ 2078280 w 2374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15240" y="3645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 rot="4819200">
            <a:off x="2297160" y="3687120"/>
            <a:ext cx="1366920" cy="276120"/>
          </a:xfrm>
          <a:custGeom>
            <a:avLst/>
            <a:gdLst>
              <a:gd name="textAreaLeft" fmla="*/ 170640 w 1366920"/>
              <a:gd name="textAreaRight" fmla="*/ 1196280 w 1366920"/>
              <a:gd name="textAreaTop" fmla="*/ 69120 h 276120"/>
              <a:gd name="textAreaBottom" fmla="*/ 207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343960" y="357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*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8"/>
          <p:cNvSpPr/>
          <p:nvPr/>
        </p:nvSpPr>
        <p:spPr>
          <a:xfrm rot="18134400">
            <a:off x="3060360" y="3860280"/>
            <a:ext cx="1582920" cy="287280"/>
          </a:xfrm>
          <a:custGeom>
            <a:avLst/>
            <a:gdLst>
              <a:gd name="textAreaLeft" fmla="*/ 197640 w 1582920"/>
              <a:gd name="textAreaRight" fmla="*/ 1385280 w 158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3714120" y="4005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 rot="20407200">
            <a:off x="5005080" y="2719440"/>
            <a:ext cx="1655640" cy="287280"/>
          </a:xfrm>
          <a:custGeom>
            <a:avLst/>
            <a:gdLst>
              <a:gd name="textAreaLeft" fmla="*/ 207000 w 1655640"/>
              <a:gd name="textAreaRight" fmla="*/ 1449000 w 1655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786200" y="214308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0,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 rot="6702600">
            <a:off x="5897880" y="3469320"/>
            <a:ext cx="1366560" cy="276120"/>
          </a:xfrm>
          <a:custGeom>
            <a:avLst/>
            <a:gdLst>
              <a:gd name="textAreaLeft" fmla="*/ 170640 w 1366560"/>
              <a:gd name="textAreaRight" fmla="*/ 1195920 w 1366560"/>
              <a:gd name="textAreaTop" fmla="*/ 69120 h 276120"/>
              <a:gd name="textAreaBottom" fmla="*/ 207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6665040" y="32130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*4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9561-4D87-4751-A027-B288FEAB95A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) 34 + 26 =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) 61 – 43 = 56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) 28 × 10 = 2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) 219 : 100 = 021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http://im3-tub.yandex.net/i?id=3522538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2000160"/>
            <a:ext cx="2095200" cy="307188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63EE-93B8-4815-BB46-5CB5FD56C76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onstantia"/>
              </a:rPr>
              <a:t>Округл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) до десятых: 6, 71; 2,38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) до сотых: 0, 526; 2, 48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) до единиц: 63,6; 15,3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2706-C9D1-45E8-A3FB-65DD396FFA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olas"/>
              </a:rPr>
              <a:t>Вычисл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1) 1243,5 – (279,48 + 105,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2) 91,8 : (10, 56 – 1,5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3) 16,24 × (3,7 + 6,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4) (6,59 + 3,405) ×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5) (4,3 + 2,4 : 8) ×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О – 13,8; Р – 162,4; Е – 10,2; Р – 999,5; И – 858,8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AC26-AECB-4574-8CD0-A28CE53CFB6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onsolas"/>
              </a:rPr>
              <a:t>Иерро – принадлежит Канарским остров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olas"/>
              </a:rPr>
              <a:t>Канарские острова включают 7 больших и 6 малых островов. Иерро – это самый маленький остров данного архипела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http://photo.dreamvoyage.ru/_ph/60/1/3638266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3500280"/>
            <a:ext cx="421812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9A12-99B3-4A92-8820-2A5D7D260A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olas"/>
              </a:rPr>
              <a:t>Символ – «драконовое дере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http://im7-tub.yandex.net/i?id=222284497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1643040"/>
            <a:ext cx="340992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d36efffaaed"/>
          <p:cNvPicPr/>
          <p:nvPr/>
        </p:nvPicPr>
        <p:blipFill>
          <a:blip r:embed="rId3"/>
          <a:stretch/>
        </p:blipFill>
        <p:spPr>
          <a:xfrm>
            <a:off x="214200" y="171468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D9E8-AABA-44E3-980F-C0EC18E485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8:27:30Z</dcterms:created>
  <dc:creator>Grey Wolf</dc:creator>
  <dc:description/>
  <dc:language>en-US</dc:language>
  <cp:lastModifiedBy>Grey Wolf</cp:lastModifiedBy>
  <dcterms:modified xsi:type="dcterms:W3CDTF">2011-02-26T09:31:15Z</dcterms:modified>
  <cp:revision>33</cp:revision>
  <dc:subject/>
  <dc:title>Действия с десятичными дробями.</dc:title>
</cp:coreProperties>
</file>